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817-E715-4847-A73A-474018C1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746-2006-4451-A5F7-4FA05FEC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E57-21AF-4E1A-898D-5E47E939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78F-B225-49E8-BB74-585A646D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5B1-E671-4E8F-A690-468B5010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219-A9FF-46D6-B6BA-E816888A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247-9798-40DB-AB7D-21BB297B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D71-CB00-4481-A05C-014965FB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037B-3005-464F-83FC-CA4DF9AA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9BB-78BE-499A-9B8A-87DFBECF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305-59C2-4E31-BF1A-5D044813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E6F-4ACD-43A4-B8AF-A06D1C78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99D2-E2E1-4ECD-80FF-4130EF6BD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slide" Target="slide7.xml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slide" Target="slide17.xml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" Target="slide27.xml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4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5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9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slide" Target="slide29.xml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slide" Target="slide40.xml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slide" Target="slide60.xml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2.png"/><Relationship Id="rId55" Type="http://schemas.openxmlformats.org/officeDocument/2006/relationships/image" Target="../media/image1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image" Target="../media/image2.png"/><Relationship Id="rId61" Type="http://schemas.openxmlformats.org/officeDocument/2006/relationships/image" Target="../media/image1.png"/><Relationship Id="rId62" Type="http://schemas.openxmlformats.org/officeDocument/2006/relationships/slide" Target="slide13.xml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1.png"/><Relationship Id="rId69" Type="http://schemas.openxmlformats.org/officeDocument/2006/relationships/slide" Target="slide44.xml"/><Relationship Id="rId70" Type="http://schemas.openxmlformats.org/officeDocument/2006/relationships/image" Target="../media/image2.png"/><Relationship Id="rId71" Type="http://schemas.openxmlformats.org/officeDocument/2006/relationships/image" Target="../media/image1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64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hyperlink" Target="file:///tmp/home/.config/libreoffice/4/user/gallery/APPLAUSE.WAV" TargetMode="External"/><Relationship Id="rId83" Type="http://schemas.openxmlformats.org/officeDocument/2006/relationships/image" Target="../media/image3.png"/><Relationship Id="rId84" Type="http://schemas.openxmlformats.org/officeDocument/2006/relationships/oleObject" Target="../embeddings/oleObject1.bin"/><Relationship Id="rId85" Type="http://schemas.openxmlformats.org/officeDocument/2006/relationships/image" Target="../media/image4.png"/><Relationship Id="rId8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75 million subscribers per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1447920"/>
            <a:ext cx="63244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 the value of r so that the line that passes through each pair of points has the given slo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4, r) (r, 2) m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95880" y="3962520"/>
                <a:ext cx="738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lope of the line that passes through (a, b) and (a, -b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def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direct variation equ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k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6668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onstant of variation in the following equ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-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 = 8 when x = 4, find y when x =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2x,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 = 6 when x =    , find x when y = 1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334120" y="2438280"/>
                <a:ext cx="353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9x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334120" y="2514600"/>
                <a:ext cx="576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1143000"/>
            <a:ext cx="6324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a direct variation equation that relates the variables in the follow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ona coffee beans are $14.49 per pound.  The total cost of p pounds is 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14.49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05740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lope and y-intercept of the follow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4x –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 = 4, b = 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an equation of the line whose slope is 3 and y-intercept is -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3x -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13372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lope and y-intercept of the follow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x + 3y =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Mr. Shaw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 =     , b = 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62520" y="2438280"/>
                <a:ext cx="688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an equation of a horizontal line that crosses the y-axis at (0, -5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-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an equation of a line that passes through the origin with slope 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3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an equation of the line that passes through (1, 5) with slope 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2x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1905120"/>
            <a:ext cx="6324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an equation of the line that passes through the given point with the given slo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5, -2) m =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3x – 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6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7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9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0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2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3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5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6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6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8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9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0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1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2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3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4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5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6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7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0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1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3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4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7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8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0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1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2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3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5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6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7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8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9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80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1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l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143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irect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y = mx +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14300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riting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066680"/>
            <a:ext cx="14479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arallel or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rpend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P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82"/>
          </p:cNvPr>
          <p:cNvPicPr/>
          <p:nvPr/>
        </p:nvPicPr>
        <p:blipFill>
          <a:blip r:embed="rId83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5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22096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the equation of the line that passes through the given poi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3, -2) (6,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2x – 8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1447920"/>
            <a:ext cx="6324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an equation of the line that has each pair of intercep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-intercept: 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-intercept: 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   x +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191120" y="2590920"/>
                <a:ext cx="3506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2666880"/>
            <a:ext cx="6324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the equation of the line that passes through the given poi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    , 1) (   ,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334120" y="4800600"/>
                <a:ext cx="323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352680" y="4800600"/>
                <a:ext cx="541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724280" y="4800600"/>
                <a:ext cx="541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    x +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267080" y="2514600"/>
                <a:ext cx="639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562720" y="2514600"/>
                <a:ext cx="511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6765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the slope-intercept form of an equation for the line that passes through        (-1, -2) and is parallel to the graph of y = -3x – 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-3x –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19810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the slope-intercept form of a line that passes through (1, -3) and is perpendicular to the graph of y =   x + 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038480" y="4343400"/>
                <a:ext cx="443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-2x – 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 the slope of the line that passes through the pair of points:  (-4, -1) (-3, -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71600" y="22860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the slope intercept form of a line that passes through (0, 4) and is perpendicular to the graph of 3x + 8y = 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  x +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114800" y="2438280"/>
                <a:ext cx="4586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2096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the slope-intercept form of a line that passes through (2, 2) and is parallel to the graph of 3x – 4y = -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  x +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343400" y="2590920"/>
                <a:ext cx="3841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410080" y="2590920"/>
                <a:ext cx="3841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1676520"/>
            <a:ext cx="6324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 the graphs of the two equations perpendicular, parallel or neit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y = 2x + 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x – 3y =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all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666880"/>
            <a:ext cx="63244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lve the equation with the given dom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 = x –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{-4, -2, 0, 2, 4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{(-4, -13), (-2, -11), (0, -9), (2, -7), (4, -5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7920" y="266688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 the next 3 terms in the arithmetic sequ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3, -11, -19, -27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35, -43, -5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f(x) = 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– x + 1, find g(-1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71600" y="266688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following arithmetic sequence, find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ter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, 11, 14, 17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nly straight line that is not a function i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rt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[s + 3(s – 1)] = 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2209680"/>
            <a:ext cx="63248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 the value of r so the line that passes through each pair of points has the given slo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6, 2) (9, r) m=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16765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1990 there were 52 million cable subscribers in the US.  In 1998, there were 66 million.  What was the rate of chan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North Pitt High School</cp:lastModifiedBy>
  <dcterms:modified xsi:type="dcterms:W3CDTF">2008-03-03T16:21:15Z</dcterms:modified>
  <cp:revision>69</cp:revision>
  <dc:subject/>
  <dc:title>No Slide Title</dc:title>
</cp:coreProperties>
</file>